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0CC-BA9E-48DC-B3E5-E6841CA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1D0-E921-4B8E-8D34-5B78AA6F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51E-F8D5-4DDD-BF03-31821E0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980-0146-4C08-BDAE-E9CC9D22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0D7-B641-4C87-8614-CD79B52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7D0-ABC3-401E-ACA6-FF03EF4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A1F-3F26-4055-B7C1-62A62377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933-5267-4524-9DE2-326A579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B29-1F38-4718-88A7-6A7AD8E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0A6-2FBA-48AF-ADCC-D27851C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80B-95F1-4500-9E21-1B1CB11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A0D-1736-496F-81E9-2FE0E10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0973-7497-4BCD-9185-50C02C706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1dae1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oper Black"/>
              </a:rPr>
              <a:t>A large area of flat land or nearly flat land 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place in the desert made fertile by a steady supply of water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t2.gstatic.com/images?q=tbn:ANd9GcTgMNVwXnFV3RO-tXr-GZEHRV-xHQiJqu0QL7eFVk2Y5s7aVfmM3A"/>
          <p:cNvPicPr/>
          <p:nvPr/>
        </p:nvPicPr>
        <p:blipFill>
          <a:blip r:embed="rId1"/>
          <a:stretch/>
        </p:blipFill>
        <p:spPr>
          <a:xfrm>
            <a:off x="0" y="1295280"/>
            <a:ext cx="68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eries of connected mountains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807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70102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t1.gstatic.com/images?q=tbn:ANd9GcRInA-inBSIU_Q8vwxG5A2LPjLsj_B0FeaTQdsLyRWruW54qupX"/>
          <p:cNvPicPr/>
          <p:nvPr/>
        </p:nvPicPr>
        <p:blipFill>
          <a:blip r:embed="rId1"/>
          <a:stretch/>
        </p:blipFill>
        <p:spPr>
          <a:xfrm>
            <a:off x="0" y="1219320"/>
            <a:ext cx="7086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How is a strait similar to an isthmus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51814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9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10"/>
          <p:cNvSpPr/>
          <p:nvPr/>
        </p:nvSpPr>
        <p:spPr>
          <a:xfrm>
            <a:off x="358128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8580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answer here.  Be sure to delete directions on each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a plateau  different  butte ?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5800" y="33526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aus are really big and butte is very  smal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144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are mountains the same from volcano's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 flipH="1">
            <a:off x="1555200" y="1981080"/>
            <a:ext cx="49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oth are big and can have a lot of r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838080" y="685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deserts and oasi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057400" y="2133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th dry and  can be hot or coo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ISLPT160\Local Settings\Temporary Internet Files\Content.IE5\INHF4ZLX\MP900313889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2057400" y="289548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2296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934320" y="3657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2.bp.blogspot.com/_dV5cU-6GH80/TSTqR06WgyI/AAAAAAAAADo/w1c8eWBdpEk/s1600/cape-york-peninsula-40.jpg"/>
          <p:cNvPicPr/>
          <p:nvPr/>
        </p:nvPicPr>
        <p:blipFill>
          <a:blip r:embed="rId1"/>
          <a:stretch/>
        </p:blipFill>
        <p:spPr>
          <a:xfrm>
            <a:off x="0" y="1752480"/>
            <a:ext cx="6553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place where a river begin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northgeorgiawater.org/images/stormwater_source_water_tmdl.jpg"/>
          <p:cNvPicPr/>
          <p:nvPr/>
        </p:nvPicPr>
        <p:blipFill>
          <a:blip r:embed="rId1"/>
          <a:stretch/>
        </p:blipFill>
        <p:spPr>
          <a:xfrm>
            <a:off x="0" y="1295280"/>
            <a:ext cx="6705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ntain created as liquid rock and ash erupt from the inside the earth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629400" y="342900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934320" y="3657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Vol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volcano-facts.com/volcano-wallpapers/volcano-wallpaper-1.jpg"/>
          <p:cNvPicPr/>
          <p:nvPr/>
        </p:nvPicPr>
        <p:blipFill>
          <a:blip r:embed="rId1"/>
          <a:stretch/>
        </p:blipFill>
        <p:spPr>
          <a:xfrm>
            <a:off x="0" y="198108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high, flat landform that rises steeply above the surrounding land i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t1.gstatic.com/images?q=tbn:ANd9GcQC2MzRfjWuWRTADLE7ol1PR55-3b8kVbZ-YsP7_nz0uQLhZWSd"/>
          <p:cNvPicPr/>
          <p:nvPr/>
        </p:nvPicPr>
        <p:blipFill>
          <a:blip r:embed="rId1"/>
          <a:stretch/>
        </p:blipFill>
        <p:spPr>
          <a:xfrm>
            <a:off x="0" y="2133720"/>
            <a:ext cx="6705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, low-lying land built up from soil carried downstream by a river and deposited at its mouth 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040" y="2895480"/>
            <a:ext cx="4419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1981080"/>
            <a:ext cx="6505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huge sheet of ice that moves slowly across the land is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781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travel-china.net/imagesen/new/1/rongpo-glacier1.jpg"/>
          <p:cNvPicPr/>
          <p:nvPr/>
        </p:nvPicPr>
        <p:blipFill>
          <a:blip r:embed="rId1"/>
          <a:stretch/>
        </p:blipFill>
        <p:spPr>
          <a:xfrm>
            <a:off x="0" y="160020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very dry area where few plants grow is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781680" y="3505320"/>
            <a:ext cx="213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701028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blueplanetbiomes.org/images/dry_desert.jpg"/>
          <p:cNvPicPr/>
          <p:nvPr/>
        </p:nvPicPr>
        <p:blipFill>
          <a:blip r:embed="rId1"/>
          <a:stretch/>
        </p:blipFill>
        <p:spPr>
          <a:xfrm>
            <a:off x="0" y="160020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10:56Z</dcterms:created>
  <dc:creator>BHISD</dc:creator>
  <dc:description/>
  <dc:language>en-US</dc:language>
  <cp:lastModifiedBy>BHISD</cp:lastModifiedBy>
  <dcterms:modified xsi:type="dcterms:W3CDTF">2011-09-28T16:14:28Z</dcterms:modified>
  <cp:revision>17</cp:revision>
  <dc:subject/>
  <dc:title>An body of water of land completely sur</dc:title>
</cp:coreProperties>
</file>